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6FBC-ADE6-476B-A274-68E1E2437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F5D1-C275-4B24-B063-71B60BC07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ttom picture are the Ural Mountains and the top pictures is Mount Ever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D404-1D6A-4DE7-9644-6DB425E3C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picture of Lake Baik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ADD0-1BF0-4135-8243-4F3460D80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259C-CCF2-4780-B052-1AD79BC46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2EB0-1F98-412C-B47A-6395D9920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6758-9509-4BA2-8FC4-290B69D56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8A11-2A47-4CE7-975B-59496AA37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8389-5FB3-4264-B990-B9075C86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3E7D-7434-4E0C-8177-D41DDE77E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E281-2CB6-434D-A9E6-1250929B2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76B3-129C-483C-8CBE-ED2ADCC7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1B99-2D1B-43AC-93F1-9423EBCD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5763-0A72-4260-AAAC-B94E285D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731B-B610-4D40-B843-6881F488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BAD6-D0CD-4E6E-ADB2-023CCA55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55BF-E2BA-4D5A-9AAA-87F9AE16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C2BF-7917-4290-BE2C-5A2A8C22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969F-3A1E-488A-9AD7-299CC0CF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AA1C-3601-4059-A31F-2EFA42312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unpbf.org/images/Russia.gi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2/Ural_mountains_448118784_97386d9aac_b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moscowtopnews.com/image/article/7/0/4/1704.jpe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treehugger.com/lake-baikal-goldman-prize.jpg&amp;imgrefurl=http://www.treehugger.com/files/2008/11/lake-baikal-pollution-free.php&amp;usg=__2cFacaCCFadgJs2PcVDs-wTDDlc=&amp;h=315&amp;w=468&amp;sz=52&amp;hl=en&amp;start=9&amp;zoom=1&amp;um=1&amp;itbs=1&amp;tbnid=OcG-jCZnnzA_GM:&amp;tbnh=86&amp;tbnw=128&amp;prev=/images%3Fq%3Dlake%2Bbaikal%26um%3D1%26hl%3Den%26tbs%3Disch:1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action.walmartwatch.com/page/-/blog/thumbs%2520up.jpg&amp;imgrefurl=http://walmartwatch.com/blog/tags/tag/pr/&amp;usg=__G7jdQQE1Vb5TutD7-74kychr7rU=&amp;h=320&amp;w=320&amp;sz=36&amp;hl=en&amp;start=34&amp;zoom=1&amp;um=1&amp;itbs=1&amp;tbnid=Snp4BfHeRDaGlM:&amp;tbnh=118&amp;tbnw=118&amp;prev=/images%3Fq%3Dthumbs%2Bup%26start%3D20%26um%3D1%26hl%3Den%26sa%3DN%26rlz%3D1R2ADSA_enUS363%26ndsp%3D20%26tbs%3Disch: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google.com/imgres?imgurl=http://www.clipartguide.com/_small/0808-0710-2914-4647.jpg&amp;imgrefurl=http://www.clipartguide.com/_pages/0808-0710-2914-4647.html&amp;usg=__L_gsxl4TM7YKOww11ntEbouHoMw=&amp;h=300&amp;w=300&amp;sz=5&amp;hl=en&amp;start=33&amp;zoom=1&amp;um=1&amp;itbs=1&amp;tbnid=p-GN-w-MPqAaNM:&amp;tbnh=116&amp;tbnw=116&amp;prev=/images%3Fq%3Dcheck%2Bmark%26start%3D20%26um%3D1%26hl%3Den%26sa%3DN%26rlz%3D1R2ADSA_enUS363%26ndsp%3D20%26tbs%3Disch:1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/imgres?imgurl=http://www.bestwaytoinvest.com/UserFiles/Image/Russia-c.jpg&amp;imgrefurl=http://www.bestwaytoinvest.com/russia&amp;usg=__8TcAv4irTc9FYSTZYKTShQ55trI=&amp;h=705&amp;w=663&amp;sz=82&amp;hl=en&amp;start=2&amp;zoom=1&amp;itbs=1&amp;tbnid=vS0nfjQiHHezBM:&amp;tbnh=140&amp;tbnw=132&amp;prev=/images%3Fq%3Drussia%26hl%3Den%26tbs%3Disch:1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s.google.com/imgres?imgurl=http://www.cpc.unc.edu/projects/rlms/images/russia_home_upper_banner.jpg&amp;imgrefurl=http://www.cpc.unc.edu/projects/rlms/&amp;usg=__VbwQTSRXNi7caYhTaUv9xfgWLRg=&amp;h=308&amp;w=509&amp;sz=51&amp;hl=en&amp;start=20&amp;zoom=1&amp;itbs=1&amp;tbnid=z8jXwAd24eb_mM:&amp;tbnh=79&amp;tbnw=131&amp;prev=/images%3Fq%3Drussia%26hl%3Den%26tbs%3Disch:1" TargetMode="External"/><Relationship Id="rId6" Type="http://schemas.openxmlformats.org/officeDocument/2006/relationships/image" Target="../media/image12.jpeg"/><Relationship Id="rId7" Type="http://schemas.openxmlformats.org/officeDocument/2006/relationships/hyperlink" Target="http://images.google.com/imgres?imgurl=http://www.e-architect.co.uk/images/jpgs/moscow/russia_tower_fosters_oct07_4.jpg&amp;imgrefurl=http://www.e-architect.co.uk/moscow/russia_tower.htm&amp;usg=__k_f-SSwRd0_BMuCa8DvED1YnXY8=&amp;h=1000&amp;w=500&amp;sz=49&amp;hl=en&amp;start=12&amp;zoom=1&amp;itbs=1&amp;tbnid=C-J8fZYhz3QvyM:&amp;tbnh=149&amp;tbnw=75&amp;prev=/images%3Fq%3Drussia%26hl%3Den%26tbs%3Disch:1" TargetMode="External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 IN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Emilia Kapcia, Nina Luu,and Kevin Do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d about land i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Rus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lots of mountains in Russia and not a lot of land to plant cr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the Ural Mountains, it is harder to travel to eastern and western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cano, Mt. Elbrus, is part of ring of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land for farming but it is too cold to 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 rot="357600">
            <a:off x="4343400" y="5029200"/>
            <a:ext cx="3438360" cy="1676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 rot="20551800">
            <a:off x="152280" y="228240"/>
            <a:ext cx="16765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14640" y="4784760"/>
            <a:ext cx="4219560" cy="20858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he people adapted to the bad 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y want to travel to eastern Russia they could take a plane over the Ural Mou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has one of the deepest freshwater lakes, so if something gets into there drinking water, they could drink out of that l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http://t0.gstatic.com/images?q=tbn:Snp4BfHeRDaGlM: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442116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good things about the land in Rus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has two plains that are very good for pla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ts of rivers that are navig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of the navigable rivers tourists can get in and out of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8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09480" y="1371600"/>
          <a:ext cx="8229600" cy="5105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10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e are good navigable rivers in Russia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2 plains in Russia that are very good for farming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t because of how cold it is, the rivers are froz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is also too cold for farming in the pla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63" name="Picture 7" descr="http://t1.gstatic.com/images?q=tbn:p-GN-w-MPqAaNM:">
            <a:hlinkClick r:id="rId2"/>
          </p:cNvPr>
          <p:cNvPicPr/>
          <p:nvPr/>
        </p:nvPicPr>
        <p:blipFill>
          <a:blip r:embed="rId3"/>
          <a:stretch/>
        </p:blipFill>
        <p:spPr>
          <a:xfrm rot="1014000">
            <a:off x="2203200" y="4565160"/>
            <a:ext cx="1790640" cy="1791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://www.law.columbia.edu/ipimages/Information_technology/images/CheckMarkX.jpg"/>
          <p:cNvPicPr/>
          <p:nvPr/>
        </p:nvPicPr>
        <p:blipFill>
          <a:blip r:embed="rId4"/>
          <a:stretch/>
        </p:blipFill>
        <p:spPr>
          <a:xfrm rot="20660400">
            <a:off x="5562720" y="4640040"/>
            <a:ext cx="1676160" cy="16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www.bugbog.com/images/galleries/russia_pictures/russia_pictures_door.jpg"/>
          <p:cNvPicPr/>
          <p:nvPr/>
        </p:nvPicPr>
        <p:blipFill>
          <a:blip r:embed="rId2"/>
          <a:stretch/>
        </p:blipFill>
        <p:spPr>
          <a:xfrm rot="20713200">
            <a:off x="34920" y="363240"/>
            <a:ext cx="2981160" cy="1987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http://t3.gstatic.com/images?q=tbn:vS0nfjQiHHezBM:">
            <a:hlinkClick r:id="rId3"/>
          </p:cNvPr>
          <p:cNvPicPr/>
          <p:nvPr/>
        </p:nvPicPr>
        <p:blipFill>
          <a:blip r:embed="rId4"/>
          <a:stretch/>
        </p:blipFill>
        <p:spPr>
          <a:xfrm rot="906600">
            <a:off x="6148440" y="299880"/>
            <a:ext cx="2681280" cy="2845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http://t3.gstatic.com/images?q=tbn:z8jXwAd24eb_mM:">
            <a:hlinkClick r:id="rId5"/>
          </p:cNvPr>
          <p:cNvPicPr/>
          <p:nvPr/>
        </p:nvPicPr>
        <p:blipFill>
          <a:blip r:embed="rId6"/>
          <a:stretch/>
        </p:blipFill>
        <p:spPr>
          <a:xfrm rot="1244400">
            <a:off x="-108000" y="3993840"/>
            <a:ext cx="3432240" cy="2070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http://t0.gstatic.com/images?q=tbn:C-J8fZYhz3QvyM:">
            <a:hlinkClick r:id="rId7"/>
          </p:cNvPr>
          <p:cNvPicPr/>
          <p:nvPr/>
        </p:nvPicPr>
        <p:blipFill>
          <a:blip r:embed="rId8"/>
          <a:stretch/>
        </p:blipFill>
        <p:spPr>
          <a:xfrm rot="20616600">
            <a:off x="3189240" y="1741320"/>
            <a:ext cx="2278080" cy="5105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http://t2.gstatic.com/images?q=tbn:gVg60s1Mqu7dKM:"/>
          <p:cNvPicPr/>
          <p:nvPr/>
        </p:nvPicPr>
        <p:blipFill>
          <a:blip r:embed="rId9"/>
          <a:stretch/>
        </p:blipFill>
        <p:spPr>
          <a:xfrm rot="1156200">
            <a:off x="5589720" y="3828600"/>
            <a:ext cx="311292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23:43:40Z</dcterms:created>
  <dc:creator>Emilka</dc:creator>
  <dc:description/>
  <dc:language>en-US</dc:language>
  <cp:lastModifiedBy>Emilka</cp:lastModifiedBy>
  <dcterms:modified xsi:type="dcterms:W3CDTF">2010-12-20T13:07:38Z</dcterms:modified>
  <cp:revision>8</cp:revision>
  <dc:subject/>
  <dc:title>LAND IN RUSSIA</dc:title>
</cp:coreProperties>
</file>